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0" y="0"/>
            <a:ext cx="6717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132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dt" idx="49"/>
          </p:nvPr>
        </p:nvSpPr>
        <p:spPr>
          <a:xfrm>
            <a:off x="3805200" y="-360"/>
            <a:ext cx="291168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sldImg"/>
          </p:nvPr>
        </p:nvSpPr>
        <p:spPr>
          <a:xfrm>
            <a:off x="892080" y="739440"/>
            <a:ext cx="49341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ftr" idx="50"/>
          </p:nvPr>
        </p:nvSpPr>
        <p:spPr>
          <a:xfrm>
            <a:off x="-360" y="9372240"/>
            <a:ext cx="291132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 type="sldNum" idx="51"/>
          </p:nvPr>
        </p:nvSpPr>
        <p:spPr>
          <a:xfrm>
            <a:off x="3805200" y="9372240"/>
            <a:ext cx="291168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695C92C5-1BB1-4746-8E8D-A48674224A8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05200" y="93726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F8BBB2FE-1764-4443-80DE-7D19DA47FF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3 - Θέση αριθμού διαφάνειας"/>
          <p:cNvSpPr/>
          <p:nvPr/>
        </p:nvSpPr>
        <p:spPr>
          <a:xfrm>
            <a:off x="3805200" y="93726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8DB0D091-1781-4780-9CDE-62FC693592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2399E9-CADA-45A3-8B8D-4BCF3B8BC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CEE9C8-0A08-40DC-AD0B-9BAB437C3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C3D3B0-5C81-4507-98A3-21554C2D8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E374FC-AE80-4FA9-99FE-F24A46892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AA77DE-8E74-45A7-A349-914557698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18CB77-D140-46DC-80DB-8F0DED32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12C797-2A0E-479D-A353-F2A745B51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DA4410-75C8-4683-909A-549B1EE4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859EDB-5F28-4957-A3F7-6D04415E9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284628-D23C-4ED8-847E-2D5E6FF20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1EE8C0-F6B1-47B1-A039-6E936BD0D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FD84480-5BAD-4A6B-8A49-2E9BFC956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7D1C17-A989-4773-AA4B-CB90FF8AA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19D25A5-8AE5-4F7D-85D9-4656D76EC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63F6A9E-A243-4276-B737-7287A7ACA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F76B8A2-D911-4D7A-BCAC-D48BEA436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632A64E-01D5-41E2-8E37-3420185E9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25EC79E-4CD3-4E76-9CD1-0B19A1F78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5E3B664-D39F-4C98-814B-354828E8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7DC6D68-07C3-48AB-8C66-C9B7E507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CA863AF-DF7F-486B-BA64-E67240AE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E27AED3-9650-48E6-9001-DB1B9BA1D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209E84D-C41A-4FBF-BACA-F76280DFE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86D764-2F3F-4CAF-A1C2-7A503C1F9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7C467CE-5D8B-4CE8-9D99-1BE7E96E5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8C57927-0D88-4EE8-A0E1-91F233B81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383C848-4632-4F5E-8EEF-377EC3E1B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3EAB9B7-ED85-4D5B-97A2-E1B0668E2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09C5690-5AFD-4AEA-9493-E92E01414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8B6E1B8-8D9E-4C95-B664-84D1733E3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35EFAEF-4973-476E-BEAF-56F1E4D33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3B63004-5ABB-4256-85C2-B144E283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33621CE-DDFC-410D-8A51-B27A5BB0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DEF2588-4DE2-44D4-8D0F-7001D8CF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326361-9CF2-453B-9AE0-1AD66E537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9A2AC04-3998-433F-A2F7-CF802B762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E110C61-322F-4F64-8201-8197C654E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8390FB9-E6C7-4A41-AE86-CB5AE1A8B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D7BDBE-8259-4E11-8550-850FE4AE1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8DB20A-0588-4BC8-BED2-BB3C6FE4B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925988-1420-4D0E-9E34-49DEA59F9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0A7C9F-78D7-443C-97DD-D7A570EB9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5CAAD2-FAB7-4BF6-A792-5D88A97D4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46BF3D-F7AD-405D-B08C-BD7EA37D6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A33933-E37B-4967-B3D3-1EF16F61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FF6F3F-F535-469D-AC41-5A29CE237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B3810C-ABB6-4D66-AA29-756A00E9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D89DA9-452A-4D1B-8F60-359BCE8D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0BFCEC-B429-475F-A405-7408010F6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983749-E15E-4F17-9628-8265C20AA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EEB3BD-8148-44C2-86FB-0EEA019BF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538D46-7CB6-4F5C-B219-916AA5947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68AD07-B2B5-429F-A5A0-A8C2E2AA7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741CAB-056C-4FEF-8E71-5C4668E6D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D9E6A4-E49A-4B6D-9DAD-E77BE5C82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DEBC8C-8B08-42F5-BCB4-015B7913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DABBF7-1841-43B9-959F-0C9E90A56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DC09DB-0523-4E95-9852-00C5612B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47A758-5AC4-4ED4-932B-1A9C6F9F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895ED4-BE5B-4FD7-8745-EA68DC93A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FA54B3-F20A-4FA4-824C-606F3808B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DD8429-014E-427D-9F01-210C5AC9D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A3A71-1647-416F-94EF-97DC3807F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2981F-173F-402D-A6F0-418FC7853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35694-4058-4D8F-B991-DFB9EBC60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A9774-B6F7-438F-ABA5-E91187661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80007-CF06-4A09-BD62-170665E99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5B6297-512C-4366-869A-F10C1CFC4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FC1FF-317C-4595-8E22-02156C3E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35218-EE6A-4CAA-82D8-4227162E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0B0DF-9EE1-4B69-9CF6-6EF1F759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86FA9-7932-439F-9FB8-C26DF092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1CB75-ABA6-4093-BB29-8FCB9DAB2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7FBC6-61F2-4DB5-9689-682FF3EA6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3C881-7973-42E8-8519-3D4D5099E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9ACD494-A0FB-4F4D-9B81-21A0D9126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5A4B683-517D-45C0-A2A9-5328E314F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AB0B47-14ED-4EE3-81A8-C0BA4A35C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D99C06-E3AC-49E5-8A13-CEE6CB330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7CC943E-A039-4160-AD2D-354EA5FF5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BEA9E7-70AC-458E-B87D-646A035F6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DE01C56-F6E2-4458-B20E-6BB8961E6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7F7BD65-A6C4-4B23-ACFE-F05550A5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DD4BE3-D983-4918-8BD7-8B0AE6BE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97281D-7A5E-46FC-9A27-B18CC1DD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A7D952-1B31-488E-B115-B608A154D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07BDA35-ABA5-4239-BBF2-D2E089EED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4F4652-4659-40D3-98BD-918911337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D24CE1-2CA3-49A7-BE87-6B22665AC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65D0EC-B776-4077-9C36-1A7FAD910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8BD10B-26DD-469D-806E-3E5E11A9B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8CAC93-F0C7-421F-9FA4-403DD68EA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A4054D-32BB-4A3F-9B0F-1CFB6ACF8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53E490-4240-4B40-99D1-E8FD31459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1F9CEB-2C69-4815-88B8-C3EC223C9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52DD1B-DDBB-4322-8B05-9458AB67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AF61CA-3AF6-4E7C-9497-8B2EEE25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5EFE3C-979A-485B-AA7E-35F9DDC2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BA4E24-B28F-44F7-83AA-B1C8E41F6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CA20C4-93B5-42C6-888C-1CE13768B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50507F-66E1-499C-8B81-99DC79606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13FBC7-64C2-4C2B-A059-61AC102FC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62BF4B-F7DB-4DD6-92AA-5492D434B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02DEBD-5889-405A-A1B7-3063381B4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B17A72-FA1A-4868-B55C-8EB5C9D0D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3345C9-EB92-4DDE-9B6C-71556EEC6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FA28A-56BA-4B8F-B989-FFD2DF9FF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023865-9B10-4348-A59F-B3EF8FF05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C8DE38-6754-4D92-BFEA-9F5C6DDD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6759AD-3ABD-4065-91EC-96283D85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28D3F0-DA41-4EDB-8C85-BED810DF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E18722-56F3-4820-956F-A5077B4F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FE4BEE-7C35-489F-9363-948295D71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785C7B-B469-4CD9-845F-4F7090531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709A76-7396-4828-8CFB-838111078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7CCE3A-5601-4EEE-A0A4-20FA6FFFD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935AFE-89D7-4D31-8F76-428A7D8A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69C864-7D5A-480D-B437-4235F5A25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341E0F-6FFC-48EF-A37E-800ABE29A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A62FB2-5725-4E25-A98A-2E70FAB1F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BA3D0A-5F0A-4A06-9AB9-1171EFE9E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09C7E6-C021-444C-944D-198B71AE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853886-9BCF-4EE0-869D-1812AF45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11BA9E-73EE-4A1D-ADBA-FE2B5614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ADB037-72DA-4087-BE15-7BA18EA8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7DC9C3-C9B4-47F4-BD67-3CB03A4B9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3B4E78-0A44-4BB3-9AD1-38AA513D1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145C49-9906-42A9-B459-CAE4A0108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641461C-ADAE-448A-9E30-8D47E29D7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8101B46-D39B-455A-9133-52E51DE1A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DACAAFE-6D8A-44B7-AB56-64578A237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F82DFCC-E369-4728-A8C9-E8F673FE4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26FF8BE-06FB-4837-A344-62A22FAA5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08BAAA-342E-4D40-8AC3-C5F3A3E3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67B7ECD-26F8-49D4-8086-28C400558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87324F2-FE50-4DAC-AEC9-E1457E9A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7A54EB5-FD3D-4F4B-B347-AC9AA896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5796B54-0FC9-4642-AAC2-A481B324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FCA7096-E673-46B8-9A00-6557F66F1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0BE8377-82C1-4214-B842-BC8A1F61F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DEF42FB-17A0-4067-B055-2AA1C3C39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610524-F1B0-4416-8ED3-9EA75C996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F91A16-FFE8-4498-8F93-5429BC2AA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6468AB-9F37-43FD-BECE-B379D3100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PPT_SECNDPG_0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6"/>
          <p:cNvSpPr>
            <a:spLocks noGrp="1"/>
          </p:cNvSpPr>
          <p:nvPr>
            <p:ph type="sldNum" idx="4"/>
          </p:nvPr>
        </p:nvSpPr>
        <p:spPr>
          <a:xfrm>
            <a:off x="651636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BE809-8F9A-4354-8624-DC3A1C17FA1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7" descr="PPT_SECNDPG_0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dt" idx="3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ftr" idx="3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 type="sldNum" idx="40"/>
          </p:nvPr>
        </p:nvSpPr>
        <p:spPr>
          <a:xfrm>
            <a:off x="651636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7C451-2C34-4237-89BE-491576C47C1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7" descr="PPT_SECNDPG_0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4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dt" idx="4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ftr" idx="4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 type="sldNum" idx="44"/>
          </p:nvPr>
        </p:nvSpPr>
        <p:spPr>
          <a:xfrm>
            <a:off x="651636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00275-30E2-41B3-AB99-D5250F7B27F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7" descr="PPT_SECNDPG_0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4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 type="sldNum" idx="48"/>
          </p:nvPr>
        </p:nvSpPr>
        <p:spPr>
          <a:xfrm>
            <a:off x="651636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946B3-DE5A-4C63-837C-3565CF85739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PPT_SECNDPG_0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8"/>
          </p:nvPr>
        </p:nvSpPr>
        <p:spPr>
          <a:xfrm>
            <a:off x="651636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55956-7346-4566-8A36-E0B9FE6F242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7" descr="PPT_SECNDPG_0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12"/>
          </p:nvPr>
        </p:nvSpPr>
        <p:spPr>
          <a:xfrm>
            <a:off x="651636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F06DD-D99A-4082-95C3-4BCA8E82880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PPT_SECNDPG_0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6"/>
          </p:nvPr>
        </p:nvSpPr>
        <p:spPr>
          <a:xfrm>
            <a:off x="651636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AE2CE-4248-4BFF-888B-980AF5927D5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7" descr="PPT_SECNDPG_0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 type="sldNum" idx="20"/>
          </p:nvPr>
        </p:nvSpPr>
        <p:spPr>
          <a:xfrm>
            <a:off x="651636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B4445-CBA1-468F-AA17-6B87AF0DAEC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7" descr="PPT_SECNDPG_0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 type="sldNum" idx="24"/>
          </p:nvPr>
        </p:nvSpPr>
        <p:spPr>
          <a:xfrm>
            <a:off x="651636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259AB-80CA-4797-8C94-A3FAB533ED3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7" descr="PPT_SECNDPG_0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ftr" idx="2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 type="sldNum" idx="28"/>
          </p:nvPr>
        </p:nvSpPr>
        <p:spPr>
          <a:xfrm>
            <a:off x="651636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43ACA-47AF-4CCE-9A22-93496648D17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7" descr="PPT_SECNDPG_0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3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32"/>
          </p:nvPr>
        </p:nvSpPr>
        <p:spPr>
          <a:xfrm>
            <a:off x="651636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A1A32-6F02-411C-A6F4-82E6F017724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7" descr="PPT_SECNDPG_0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36"/>
          </p:nvPr>
        </p:nvSpPr>
        <p:spPr>
          <a:xfrm>
            <a:off x="651636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E2628-EADC-47F9-B8E4-0246E4C4BEA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Slide Number Placeholder 5"/>
          <p:cNvSpPr/>
          <p:nvPr/>
        </p:nvSpPr>
        <p:spPr>
          <a:xfrm>
            <a:off x="6516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2D203-AAC7-4B60-8557-00658CFAB71E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4" descr="PPT_FIRSTPG_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0040" y="2571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Implementing EQF via sec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714240" y="4785840"/>
            <a:ext cx="378648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saloniki 11 November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ukas Zahilas, Project 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fications and learning outco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5"/>
          <p:cNvSpPr/>
          <p:nvPr/>
        </p:nvSpPr>
        <p:spPr>
          <a:xfrm>
            <a:off x="3040200" y="3665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1999800" y="1714320"/>
            <a:ext cx="56754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orts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uto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ctor 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truction Indus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ancial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alth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irdr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me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324000" y="692280"/>
            <a:ext cx="8820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6"/>
          <p:cNvSpPr/>
          <p:nvPr/>
        </p:nvSpPr>
        <p:spPr>
          <a:xfrm>
            <a:off x="2939400" y="1000080"/>
            <a:ext cx="212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9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7"/>
          <p:cNvSpPr/>
          <p:nvPr/>
        </p:nvSpPr>
        <p:spPr>
          <a:xfrm>
            <a:off x="539640" y="616572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bbe0e3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9"/>
          <p:cNvSpPr/>
          <p:nvPr/>
        </p:nvSpPr>
        <p:spPr>
          <a:xfrm>
            <a:off x="6227640" y="6165720"/>
            <a:ext cx="205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be0e3"/>
                </a:solidFill>
                <a:latin typeface="Arial"/>
              </a:rPr>
              <a:t>Loukas Zahi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7640" y="836640"/>
            <a:ext cx="878508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57120" y="1571760"/>
            <a:ext cx="842976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589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ology like competence, profile (Sports, Auto sec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dging professional descriptors with  learning outcomes (Marke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tencies as expressed through learning outcomes are not of the same nature as competencies defined by HR specialists (Marke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ficial translations of descriptors not reliable (Financial servi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 transparent relation between competences and the professions (Health servi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ng the profession at European level (Home c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539640" y="616572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be0e3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9"/>
          <p:cNvSpPr/>
          <p:nvPr/>
        </p:nvSpPr>
        <p:spPr>
          <a:xfrm>
            <a:off x="6227640" y="6165720"/>
            <a:ext cx="205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be0e3"/>
                </a:solidFill>
                <a:latin typeface="Arial"/>
              </a:rPr>
              <a:t>Loukas Zahi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07640" y="836640"/>
            <a:ext cx="878508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tren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57160" y="1988640"/>
            <a:ext cx="7143840" cy="40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589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volvement of social partners (Sports, Financial services, Marke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icipation of  the whole branch (Constru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ment of zones of mutual trust (Sports, Marke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tter comparability (Health c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4"/>
          <p:cNvSpPr/>
          <p:nvPr/>
        </p:nvSpPr>
        <p:spPr>
          <a:xfrm>
            <a:off x="539640" y="616572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be0e3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9"/>
          <p:cNvSpPr/>
          <p:nvPr/>
        </p:nvSpPr>
        <p:spPr>
          <a:xfrm>
            <a:off x="6227640" y="6165720"/>
            <a:ext cx="205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be0e3"/>
                </a:solidFill>
                <a:latin typeface="Arial"/>
              </a:rPr>
              <a:t>Loukas Zahi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07640" y="836640"/>
            <a:ext cx="878508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56800" y="1714320"/>
            <a:ext cx="767556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589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Quality assurance (many projec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ssemination (many project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lations with the Directive 2005/36. Recognised qualifications are not by definition trusted. EQF doesn’t replace recognition but prepares comparable profiles (Health sec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arity of esteem for craftsmen - equal footing as formal education (Hairdress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alorisation (majority of projects), French – German Commission for VET dealing with the design and update of automotive professions referring to the methodology developed in the project (Auto sec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4"/>
          <p:cNvSpPr/>
          <p:nvPr/>
        </p:nvSpPr>
        <p:spPr>
          <a:xfrm>
            <a:off x="539640" y="616572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be0e3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9"/>
          <p:cNvSpPr/>
          <p:nvPr/>
        </p:nvSpPr>
        <p:spPr>
          <a:xfrm>
            <a:off x="6227640" y="6165720"/>
            <a:ext cx="205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be0e3"/>
                </a:solidFill>
                <a:latin typeface="Arial"/>
              </a:rPr>
              <a:t>Loukas Zahi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-360" y="981000"/>
            <a:ext cx="878508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mplementing a learning outcomes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7389720" cy="42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589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etence framework, mapping exercise, (Sports) profiles – core profile to which national profiles are related (Auto sector), mapping based on the analysis of activities as components of the occupation (Marketing), 3 dimensions of seeing KS,C (Constru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contextualise descriptors in sectoral words (Financial servic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 as a common reference, common tool used to build a comparison grid between pre-selected qualifications (Market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wo approaches for the analysis of learning outcomes, analytic and holistic (Market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4"/>
          <p:cNvSpPr/>
          <p:nvPr/>
        </p:nvSpPr>
        <p:spPr>
          <a:xfrm>
            <a:off x="539640" y="616572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be0e3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9"/>
          <p:cNvSpPr/>
          <p:nvPr/>
        </p:nvSpPr>
        <p:spPr>
          <a:xfrm>
            <a:off x="6227640" y="6165720"/>
            <a:ext cx="205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be0e3"/>
                </a:solidFill>
                <a:latin typeface="Arial"/>
              </a:rPr>
              <a:t>Loukas Zahi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-360" y="1268280"/>
            <a:ext cx="878508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Referencing to NQFs and EQ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856800" y="2276640"/>
            <a:ext cx="7643880" cy="376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589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ate to existing national profiles (Auto sec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cation of 8 levels structure but with sub-levels (Constru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velling as a useful check of the internal and external coherence of the qualification, use of a review panel (Financial servi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ck of NQFs brings simulation scenarios (Hairdress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4"/>
          <p:cNvSpPr/>
          <p:nvPr/>
        </p:nvSpPr>
        <p:spPr>
          <a:xfrm>
            <a:off x="539640" y="616572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be0e3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9"/>
          <p:cNvSpPr/>
          <p:nvPr/>
        </p:nvSpPr>
        <p:spPr>
          <a:xfrm>
            <a:off x="6227640" y="6165720"/>
            <a:ext cx="205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be0e3"/>
                </a:solidFill>
                <a:latin typeface="Arial"/>
              </a:rPr>
              <a:t>Loukas Zahi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07640" y="836640"/>
            <a:ext cx="878508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gges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857160" y="1714320"/>
            <a:ext cx="714384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589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regulations can be based on a consensus of European wide working stakeholders and imply comparability (Auto sec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quality regulations are fulfilled sectoral organisations should relate their qualifications to the EQF (Marke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4"/>
          <p:cNvSpPr/>
          <p:nvPr/>
        </p:nvSpPr>
        <p:spPr>
          <a:xfrm>
            <a:off x="539640" y="616572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be0e3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9"/>
          <p:cNvSpPr/>
          <p:nvPr/>
        </p:nvSpPr>
        <p:spPr>
          <a:xfrm>
            <a:off x="6227640" y="6165720"/>
            <a:ext cx="205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be0e3"/>
                </a:solidFill>
                <a:latin typeface="Arial"/>
              </a:rPr>
              <a:t>Loukas Zahi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11:56:11Z</dcterms:created>
  <dc:creator>LZAH</dc:creator>
  <dc:description/>
  <dc:language>en-US</dc:language>
  <cp:lastModifiedBy>Visitor</cp:lastModifiedBy>
  <dcterms:modified xsi:type="dcterms:W3CDTF">2008-11-11T07:31:19Z</dcterms:modified>
  <cp:revision>78</cp:revision>
  <dc:subject/>
  <dc:title>Introduction on Cedefop</dc:title>
</cp:coreProperties>
</file>